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A9A4-7976-4CD6-8BF2-BF75F7FA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5D9D-D578-4EAA-A54D-FCA1EEA6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E82-0E39-4E2B-AC37-9BE160A0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9232-A80D-4927-A4A5-62AC828E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04FF-946B-45FA-BAF1-45A05EEA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1357-DE3F-4E00-9EFE-63F31036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2D35-0692-422F-8085-65E5B812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FBF7-092E-4165-853E-4B69C542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20B9-5FDD-4E88-A564-AE2BC033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342D-0407-4F23-83C8-78560182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5985-4553-4653-B8C0-B1CEC397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E62-7EB7-40FD-B3F0-151E7224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E87B-CEA3-416F-A6F4-6204C529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09DB-F25A-49A0-B6DF-F585C339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738A-5B73-495A-B50A-DBB789A6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03E2-9C80-4E28-91AD-FE48E560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008C-4D1B-400C-BFA5-903EC811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F9EBB-6758-48B9-BDBF-E952D902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25CC66-26E4-4335-ABB3-0D3D29E5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DBD20-DCA0-4CC8-A5BD-BB8AA50A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D2D8A-9646-464D-B2D4-E9C1AE75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9DA70C-AC23-4521-A451-0F1C5607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063-CC2B-406D-9366-F56CF839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1C46B-C509-4D37-B282-93150B6D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386E6-16FC-407B-886F-F49F5F36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90B651-EE83-4559-934B-549718BC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CA583-F290-43EA-9228-013D21CA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CB956E-9501-451F-9298-16B2258E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FDD773-68A6-4DF1-941C-BA946C73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20C78-7B6D-4763-A165-C5617C28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83932-DC91-4E5C-95BD-69A7869A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73F04-099E-41B1-B20E-E92F78B3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78B5D-0D5C-4B3A-B49F-728A1796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1512-5CB9-4D7D-BAF2-459F2926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4B508-5E63-4CBC-B598-F9BE55E2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5B3F6-E6C3-489B-A3B3-CC06633F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A4B97-02CA-4D89-B303-C799444B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64A1A-3233-480B-BB75-93B8B9C0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0FE92-91CB-4C1A-8EEA-A0BDF999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BC048-1B2E-4E28-B888-695D66A6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4F0CC-E4C2-43B8-8C8F-6989A9E0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1C0D1-9BC7-4ED7-AA48-F2EFF881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5D781-89F5-446B-9337-3003F2D7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93FCB6-C60B-4351-A783-D4BD0A68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CCF-6C2F-458E-B145-65CA93F2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DB1B3D-9901-43C3-8447-D3E78E94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1D6870-CDB3-421B-ABD6-8F35AB41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C0076F-29A1-470D-9AFB-ED8D53F8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6E7DBD-5134-4D48-BD08-4814C177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DBDF07-F083-4946-9C91-782A12F6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FAB48-9268-426F-AF5C-86804062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30E981-D4E1-4378-A146-963C165D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610D4D-B646-4142-854C-F7D2B9CC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F689BA-F02A-41D8-9420-1E5453BC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51BD07-A15E-4520-96E2-ACEEDCAF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0438-B3EB-47D2-821C-F02C3F80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08FD4F-1596-4BFC-839B-5958CDB0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A21871-8799-4A55-897C-C977D649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53C137-F515-4A11-A2B8-D79BD464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36D2D3-35A2-40D8-AA85-A50F471B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FE5AFA-C033-4937-B498-DF237491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06DE62-4556-4312-B6C3-56F531EF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B3F689-DFF3-499B-9825-F68DFE3D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AFFBF6-FD5C-4640-B642-8C3D1831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19C825-544B-49BB-B1E5-04F5B8A7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67AF04-83CD-44DB-A7F1-2401E86E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E9F9-FACA-4B0A-9BAF-C2AE4794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85A32A-3D37-4B73-AA18-2C30975A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26CAED-88C1-4E5C-B1F8-2941C046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3D5858-49D4-4CA3-83BB-C6ADE82B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F0139B-85B5-46DB-817F-1BB5AE51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AF2E10-F131-49C0-9E9D-0DCE6495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C68EC8-8A84-4F85-BDC9-603CD583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296F56-3244-4966-BA4C-E605D524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73F226-0A3B-4690-A429-E5D85E1F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E9FA54-56FF-4B5C-BFB3-C55E1159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4AED77-33B4-4C07-86D6-62EE225F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AB2-76CF-41AB-BA15-AD0F1105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D599CB-AC40-4877-905E-B4A76B32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D46E52-8D54-4DB4-B8FC-F1C9CF94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7705B3-3907-4537-A9A7-FF5E2A3E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FA72E9-B929-49F9-B048-052CD78D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1C143C-221A-4B26-A044-5E0B3067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51B-22D1-4C27-9DC5-F8A623AD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46A5-447B-4933-9CBD-9CC55130043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605A-C702-4658-90EC-1C252C19CE0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1DAF-E638-4F59-B2FB-42046AC6EAB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6DC3-7D9F-4042-AF3E-09CE8FAD32A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B674-AF38-4F36-A2D2-4594AC24574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A4D4-CF08-4605-A9D2-E13896DEDD9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DFCE-C153-46A2-ABF9-A8CAB5A4220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99800" y="499680"/>
            <a:ext cx="645804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entury Schoolbook"/>
              </a:rPr>
              <a:t>БЮДЖЕТ ШКОЛЫ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Century Schoolbook"/>
              </a:rPr>
              <a:t> НА 2011 ГОД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499840" y="4214880"/>
            <a:ext cx="61722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Century Schoolbook"/>
              </a:rPr>
              <a:t>11 106 266 –областно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Century Schoolbook"/>
              </a:rPr>
              <a:t>2 924 296 – районны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Century Schoolbook"/>
              </a:rPr>
              <a:t>ОБЛАСТНОЙ БЮДЖЕТ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Schoolbook"/>
              </a:rPr>
              <a:t>  </a:t>
            </a:r>
            <a:r>
              <a:rPr b="0" lang="ru-RU" sz="4800" spc="-1" strike="noStrike">
                <a:solidFill>
                  <a:srgbClr val="b32c16"/>
                </a:solidFill>
                <a:latin typeface="Century Schoolbook"/>
              </a:rPr>
              <a:t>11 106 266 –областной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10 612 748,0 оплата труда, из них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7 851 973 –заработная плат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2 685 375 –начисления на оплату труда (213 ст.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75 400 – прочие выплаты(212ст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52 800 методическая литератур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22 600 суточные на курсах,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лимпиадах, соревнования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4678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Century Schoolbook"/>
              </a:rPr>
              <a:t>ОБЛАСТНОЙ БЮДЖЕТ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25 000 транспортные услуги (222 ст.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проезд на курсы, соревно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лимпиа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35 000 прочие услуги (226 ст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проживание на курсах,                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лимпиадах,  соревнования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15 000 – прочие расходы (290 ст.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питание на районных  и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бластных  олимпиадах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соревнования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583"/>
                </a:solidFill>
                <a:latin typeface="Century Schoolbook"/>
              </a:rPr>
              <a:t>СРЕДСТВА СТАНДАРТА НА ОБЕСПЕЧЕНИЕ УЧЕБНОГО ПРОЦЕСС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Всего: 418 518рублей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103 518 – увеличение стоимости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              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материальных запасов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приобретение картриджей - 5000ру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бумага для принтера – 18 000 ру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хозяйственные товары, моющие, дезинфицирующие средства – 40 000 ру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материалы для шк. мастерской – 10 000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спортивный инвентарь – 10 480 ру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лампочки, светильники – 20 038 ру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СРЕДСТВА СТАНДАРТА НА ОБЕСПЕЧЕНИЕ УЧЕБНОГО ПРОЦЕСС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315 000  руб -  увеличение стоимости основных средств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95 000 – приобретение школьной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мебел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80 000- приобретение учебник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15 000 – приобретение учебно-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наглядных пособи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30 000 – приобретение кл. досо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95 000 – приобретение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компьютерного оборудо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Schoolbook"/>
              </a:rPr>
              <a:t>РАЙОННЫЙ БЮДЖЕТ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00000"/>
                </a:solidFill>
                <a:latin typeface="Century Schoolbook"/>
              </a:rPr>
              <a:t>Всего 2 924 296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3 000 руб (212ст.) – суточные в командировках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27 000 руб (221 ст.) – услуги связи ОАО «Волга-Телеком» (из них 43 383,62 задолженность за 2010 год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20 000 руб (222 ст) –проезд в командировки, на совещания  и т.д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2 387 296 руб. – коммунальные услуг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-1 992 996  - оплата отоплени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-387 900  - оплата электроэнерги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-6 400 – оплата прочих коммунальных услуг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entury Schoolbook"/>
              </a:rPr>
              <a:t>УСЛУГИ ПО СОДЕРЖАНИЮ ИМУЩЕСТВА (СТ.225) -200 000 РУБ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7 717,32  - регламентные работы  , ТО  ПС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5 777,28 – оплата дератизаци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781,44 – услуги по заправке и выпуске автоб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0 000 – уборка жидких и твёрдых отход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80 000 – ремонт медицинского кабине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5 144,38 – услуги по ремонту электрооб-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Задолженность за 2010 г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3134,6 –выпуск, заправка автобу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 15 715,55 –пожарная сигнализац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1623,68 – дератизац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 7 105,75 – ремонт эл.оборудов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ПРОЧИЕ УСЛУГИ (226 СТ) 73 000Р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143000"/>
            <a:ext cx="74674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4500- проживание в командировка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6482,4 – оплата тревожной кнопк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31 110,23 – услуги стоянки автобус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3 024,63 – услуги по проведению 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медицинских осмотр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600 – оплата услуг компании СБИС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Задолженность за 2010 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25 753,4 - за стоянку автобус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1529,34 – за обслуживание тревожной кнопк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УВЕЛИЧЕНИЕ СТОИМОСТИ МАТЕРИАЛЬНЫХ ЗАПАСОВ (СТ.340.606; СТ 340.607)</a:t>
            </a: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202 000 РУБ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Оплата ГСМ  - 87 002,47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Медикаменты 15 000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Хозяйственные расходы 10 000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Материалы для ремонта 43 422,57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Задолженность за 2010 год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Оплата ГСМ  - 44 997,53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Запчасти к автобусу – 1091,48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Медикаменты – 485,95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6:48:16Z</dcterms:created>
  <dc:creator>директор</dc:creator>
  <dc:description/>
  <dc:language>en-US</dc:language>
  <cp:lastModifiedBy>директор</cp:lastModifiedBy>
  <dcterms:modified xsi:type="dcterms:W3CDTF">2011-03-02T10:45:58Z</dcterms:modified>
  <cp:revision>47</cp:revision>
  <dc:subject/>
  <dc:title>Бюджет школы  на 2011 год</dc:title>
</cp:coreProperties>
</file>