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95AD-EB52-483E-A020-286A174E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A8B6-6CED-4575-A732-6FAAC7E0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BBF6-B050-4153-9452-3CE6BBAC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930-8EAD-4980-AB19-E9BFD3F07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CC5E-84B0-4DC0-9AE0-84BF76C40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DCFB-346C-4777-A6FB-ADE2862B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F02A-BE29-48B0-8F16-F3BE39FBA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27BE7-3C99-48EE-B09B-CA23737E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B1B81-6657-4777-89F7-AF93CA9E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BC789-4F55-4637-BA1A-36852D3B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7B8CF-70FC-4E55-B76F-9F554E75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B857-38B7-4A85-97B5-557082F68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D179-0D20-43F2-AFDD-C673D914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4CA5-2710-440F-BA37-030FC30A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190B-161D-4C7B-8F2E-A3063C91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5B63F-C00A-47B5-B2C4-58167EE6E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E521-DA48-4353-8E73-47886FCA2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7AF71-A20E-4C92-9F76-4B7EECB79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75924-41B5-4AEA-9C9B-949E5130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BAAE52-F758-4426-AAF4-253418DA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980A0C-3240-4676-A521-48A17AAF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5704EF-F96A-4C33-ACD0-FD9A6AAC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A62B-1DF1-43BC-9865-DFBD51FD2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3E330-044A-4229-B89F-D97FCE01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BCC59B-FD24-40DA-A0D4-7864CAB1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8D0ADD-6900-4F5B-800E-BC70D3BD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75422F-BA52-4D11-BD4E-069865B1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1FFE5-2796-40E5-A31E-A264A60A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5DAC6A-86F5-47DE-993B-71A556932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8201DC-6495-4B92-9FB8-5F9EBA783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834BE-B8C5-49F0-A3EF-9DBEE243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54672-1788-4606-B0A0-A549C01C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A0AA2A-1F1F-498F-90B1-BE8893E2E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A48E-B2A3-43BF-9BA2-D487FCEB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AAB08-448E-4791-9020-99AC32913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498358-9FAB-4267-96B9-8CB54D120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EB6885-9364-4573-98F0-8E04DA3E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A406D-B5B1-48E2-B518-0B4B3339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01707-2F5E-4A8B-86F0-ABE3B2C0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630B2-26E2-4C02-8448-00BDB9EA6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9184-40A3-4AC7-B16A-66ED4E06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9FD3F-E44A-4897-B147-7E457435E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FA83A-49B7-4BF6-AE9A-B3546C6C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2CB0F7-1856-403B-918D-271AD50C5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06E1-32B6-4604-8537-324DE3ED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8C8027-5097-4C6D-BEEB-B61DAF66D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DA9E4-D41E-4DE0-88A0-417EC37A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1832EE-82B3-4C52-B498-23E1E283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57ACF5-2077-42B6-AAE7-033242A5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C2A0D2-A686-4009-82BF-9BBF1CD72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89983C-8FC4-4076-A998-E7CA3082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5B3C2F-28E6-4F2A-B1A9-B6D67329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78A868-D260-487E-8721-E3E649700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70BFC3-81FB-4477-99FD-44F997050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DB8BF7-2912-4939-87B8-C31DBC80F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55BD-E5D5-4ABA-A521-02DD3B0B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BD520-7E0A-4A42-83D6-1007725BC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C6EA6-595B-4781-84C6-BEC0008C5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889F82-9713-4226-8FEB-E2430C5B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144F3A7-3D49-4D75-9255-D8F91607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3E30A2D-1076-41D0-AC7D-6D327BBB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D52D8D-21F8-47E3-8EE3-F9FE4027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7FC73E-52A8-481A-B1C2-20FDC7D0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06BAD5-EA58-4314-8817-6C476E7D3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10CE6C-D236-4390-AA23-B7C27AC6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D590C5-3211-4F50-96BC-3B867A23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68B-337E-422C-851E-F7F28F70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CD384F-268E-4298-B98B-9A5C7B641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5C03AA-9DF5-4E5B-AF55-6A5F9E6FD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555360-E4DB-4238-8EA6-46912288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A879D0-C058-4F26-AE11-C09D5CB73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C44A06-787E-4090-8F82-A37734E5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FCE4EF-8B1C-4852-87E8-EFB6C034D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31D792-6208-4DDB-8350-12E3F61B1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7906B2-F8B9-4ADE-BDF8-78B04C44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841B5D-6E21-4A1D-9401-32754042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8A8CD0-3CF5-44D7-B857-18D4D5B9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34C9-CD97-4E60-A5F3-F2C17BCB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0B5DB2-22E8-41B3-B0AB-63FC6060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6C4C81-FEE5-4491-A253-1ECE73D2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2B03C9-DDAE-4A9A-9733-6112204E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CB64F5-33C5-4DB7-88DD-4324C1C3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2696EA-2B4C-4B62-9283-38F57A4F1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0314-722B-4CA1-B24D-646E9DA7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BD19-7C15-4479-9161-7E5DD977AE2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DBCC-B40F-4E7D-8C98-F1CB7650A38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519B-A874-40F6-8985-15DA2E32E48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CB7D-EF2E-41C1-9891-EA55A927E32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569C-60A5-4003-8375-D9197D220E8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2C9B-E46F-4E43-B396-9690CF24C6F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9AC1-9F3B-40B3-B838-C07C0F28C0C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99800" y="499680"/>
            <a:ext cx="645804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Century Schoolbook"/>
              </a:rPr>
              <a:t>БЮДЖЕТ ШКОЛЫ</a:t>
            </a:r>
            <a:br>
              <a:rPr sz="6000"/>
            </a:br>
            <a:r>
              <a:rPr b="1" lang="ru-RU" sz="6000" spc="-1" strike="noStrike">
                <a:solidFill>
                  <a:srgbClr val="002060"/>
                </a:solidFill>
                <a:latin typeface="Century Schoolbook"/>
              </a:rPr>
              <a:t> НА 2011 ГОД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499840" y="4214880"/>
            <a:ext cx="6172200" cy="23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Schoolbook"/>
              </a:rPr>
              <a:t>11 106 266 –областно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32c16"/>
                </a:solidFill>
                <a:latin typeface="Century Schoolbook"/>
              </a:rPr>
              <a:t>2 924 296 – районный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Century Schoolbook"/>
              </a:rPr>
              <a:t>ОБЛАСТНОЙ БЮДЖЕТ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Schoolbook"/>
              </a:rPr>
              <a:t>  </a:t>
            </a:r>
            <a:r>
              <a:rPr b="0" lang="ru-RU" sz="4800" spc="-1" strike="noStrike">
                <a:solidFill>
                  <a:srgbClr val="b32c16"/>
                </a:solidFill>
                <a:latin typeface="Century Schoolbook"/>
              </a:rPr>
              <a:t>11 106 266 –областной</a:t>
            </a:r>
            <a:endParaRPr b="0" lang="en-US" sz="4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10 612 748,0 оплата труда, из них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7 851 973 –заработная плат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2 685 375 –начисления на оплату труда (213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75 400 – прочие выплаты(212ст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52 800 методическая литератур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22 600 суточные на курсах,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ах, 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7120" y="285480"/>
            <a:ext cx="746784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2060"/>
                </a:solidFill>
                <a:latin typeface="Century Schoolbook"/>
              </a:rPr>
              <a:t>ОБЛАСТНОЙ БЮДЖЕТ</a:t>
            </a:r>
            <a:endParaRPr b="0" lang="en-US" sz="4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25 000 транспортные услуги (222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проезд на курсы, соревно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ы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35 000 прочие услуги (226 ст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 проживание на курсах,               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лимпиадах,  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15 000 – прочие расходы (290 ст.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-питание на районных  и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областных  олимпиадах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соревнования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37240" indent="-2372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Century Schoolbook"/>
              </a:rPr>
              <a:t>СРЕДСТВА СТАНДАРТА НА ОБЕСПЕЧЕНИЕ УЧЕБНОГО ПРОЦЕССА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entury Schoolbook"/>
              </a:rPr>
              <a:t>Всего: 418 518рублей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103 518 – увеличение стоимости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             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материальных запасов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приобретение картриджей - 5000ру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бумага для принтера – 18 000 ру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хозяйственные товары, моющие, дезинфицирующие средства – 40 000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материалы для шк. мастерской – 10 000р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спортивный инвентарь – 10 480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4583"/>
                </a:solidFill>
                <a:latin typeface="Century Schoolbook"/>
              </a:rPr>
              <a:t>лампочки, светильники – 20 038 руб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44583"/>
                </a:solidFill>
                <a:latin typeface="Century Schoolbook"/>
              </a:rPr>
              <a:t>СРЕДСТВА СТАНДАРТА НА ОБЕСПЕЧЕНИЕ УЧЕБНОГО ПРОЦЕССА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315 000  руб -  увеличение стоимости основных средств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95 000 – приобретение школьной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мебел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80 000- приобретение учебник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15 000 – приобретение учебно-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наглядных пособий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0 000 – приобретение кл. досок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95 000 – приобретение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компьютерного оборудования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Schoolbook"/>
              </a:rPr>
              <a:t>РАЙОННЫЙ БЮДЖЕТ</a:t>
            </a:r>
            <a:endParaRPr b="0" lang="en-US" sz="4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c00000"/>
                </a:solidFill>
                <a:latin typeface="Century Schoolbook"/>
              </a:rPr>
              <a:t>Всего 2 924 296</a:t>
            </a:r>
            <a:endParaRPr b="0" lang="en-US" sz="3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3 000 руб (212ст.) – суточные в командировках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7 000 руб (221 ст.) – услуги связи ОАО «Волга-Телеком» (из них 43 383,62 задолженность за 2010 год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0 000 руб (222 ст) –проезд в командировки, на совещания  и т.д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2 387 296 руб. – коммунальные услуг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1 992 996  - оплата отопления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387 900  - оплата электроэнергии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200" spc="-1" strike="noStrike">
                <a:solidFill>
                  <a:srgbClr val="002060"/>
                </a:solidFill>
                <a:latin typeface="Century Schoolbook"/>
              </a:rPr>
              <a:t>-6 400 – оплата прочих коммунальных услуг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00000"/>
                </a:solidFill>
                <a:latin typeface="Century Schoolbook"/>
              </a:rPr>
              <a:t>УСЛУГИ ПО СОДЕРЖАНИЮ ИМУЩЕСТВА (СТ.225) -200 000 РУБ.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7 717,32  - регламентные работы  , ТО  ПС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5 777,28 – оплата дератизаци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3781,44 – услуги по заправке и выпуске автоб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0 000 – уборка жидких и твёрдых отходов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80 000 – ремонт медицинского кабинет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25 144,38 – услуги по ремонту электрооб-н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Задолженность за 2010 го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3134,6 –выпуск, заправка автобу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15 715,55 –пожарная сигнализа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1623,68 – дератизац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- 7 105,75 – ремонт эл.оборудования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ПРОЧИЕ УСЛУГИ (226 СТ) 73 000Р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143000"/>
            <a:ext cx="746748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4500- проживание в командировках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6482,4 – оплата тревожной кноп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1 110,23 – услуги стоянки автобус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3 024,63 – услуги по проведению          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               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медицинских осмотров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600 – оплата услуг компании СБИС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Century Schoolbook"/>
              </a:rPr>
              <a:t>Задолженность за 2010 :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25 753,4 - за стоянку автобуса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Schoolbook"/>
              </a:rPr>
              <a:t>1529,34 – за обслуживание тревожной кнопки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УВЕЛИЧЕНИЕ СТОИМОСТИ МАТЕРИАЛЬНЫХ ЗАПАСОВ (СТ.340.606; СТ 340.607)</a:t>
            </a:r>
            <a:br>
              <a:rPr sz="2700"/>
            </a:br>
            <a:r>
              <a:rPr b="1" lang="ru-RU" sz="2700" spc="-1" strike="noStrike">
                <a:solidFill>
                  <a:srgbClr val="ff0000"/>
                </a:solidFill>
                <a:latin typeface="Century Schoolbook"/>
              </a:rPr>
              <a:t>202 000 РУБ.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Оплата ГСМ  - 87 002,47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едикаменты 15 00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Хозяйственные расходы 10 000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атериалы для ремонта 43 422,57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entury Schoolbook"/>
              </a:rPr>
              <a:t>Задолженность за 2010 год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Оплата ГСМ  - 44 997,53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Запчасти к автобусу – 1091,48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Schoolbook"/>
              </a:rPr>
              <a:t>Медикаменты – 485,95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48:16Z</dcterms:created>
  <dc:creator>директор</dc:creator>
  <dc:description/>
  <dc:language>en-US</dc:language>
  <cp:lastModifiedBy>директор</cp:lastModifiedBy>
  <dcterms:modified xsi:type="dcterms:W3CDTF">2011-03-02T10:45:58Z</dcterms:modified>
  <cp:revision>47</cp:revision>
  <dc:subject/>
  <dc:title>Бюджет школы  на 2011 год</dc:title>
</cp:coreProperties>
</file>