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E94-DBF0-4BEB-B119-61775422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C88-FB34-4553-9CA1-D824F5FB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4CE-5A4D-4834-B724-15AD4B2C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B91-2455-494B-BA1B-F6688F2E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643F-35FF-4472-B537-59A5A03D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C906-B698-40A8-8BFF-1935676C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EB72-7ED1-4FF1-B1B3-A50444B2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FFA-A2B8-496C-8E61-4FAC1E28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1DB1-38DE-4354-8B2D-FE74519B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3383-6FEF-4195-B99E-5541891D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383B-C1CF-4660-9448-8B643BD4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EFA-0679-4336-9099-ED7B5602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9BC5-40F3-4363-BFE4-D68F61EC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4171-D6C9-464F-9707-96E977F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6AE2-DFDE-463A-9CF2-1405187E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5C43-345B-4AD8-8FD9-2E18FB8B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3C85-8734-47A2-A5FB-B1060041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BDA0E-C155-4B3B-94DD-499EDEFA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20753-44BB-41DC-AB5F-DA401A5E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53B20-90FD-44B8-BF48-8885760E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BE547-008F-4441-873E-2104929E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B366B-6F5D-4EFD-A553-F8096172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58E-EC24-4E95-9231-A8DA4C95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C610D-6A5F-4A84-A5B0-77E71764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2AF24-28F9-4FA5-B789-4327F0C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2BDC6-6FE4-487D-A6E3-71E04A8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9D074-2501-4E33-86D7-6D187670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418C6-7987-4F91-9F11-24F13CA1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92F3A-85E9-4F2E-996B-4D4380E6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B63E8-D045-45F4-9E96-2C107B97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8AB1-FE6B-4CC9-9941-6EFF0F9C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69EB-6A13-425D-9344-17F3BC62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95F6-16AB-4F84-9D2D-8F66BF3F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152-1079-44F9-93BC-23F2B892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ABA1-631A-4DDA-AD02-87761761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2A9BD-D31D-4716-A662-6B315EC0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F3BE3-CDEB-4059-A1C5-B5D29A91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A9E4-959F-4AFA-A801-8192E19A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8E340-399A-4C61-879D-250F5453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1990-8F9E-47F9-812E-C6869223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91001-6498-4927-908F-3CE0B85B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406C5-2A26-430D-82AB-69FD14B5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D9445-3181-46CD-ADCE-0CAA6354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C6DAE-9E50-4EEC-8478-B983304D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10F-A2B2-415B-80EF-3587C055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9A088-CAAB-4ED9-BA7D-1200662D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906CA9-D383-4324-AA49-1B910D13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B1B9D-AB25-4017-B74E-EA02E38B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9A57E-ACFF-45B1-B2D4-985B261F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53576-040E-4CAF-B3C0-A7D7CEB9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2FA8E-13D3-4429-8C96-F77F4E1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04B81-FCD0-4A9C-86D9-7F255AAB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9BFB9-D438-4264-9366-03D1E46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030B4-E73B-4F72-8E9B-FAF4E8AB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ED436-F731-42C6-90D1-0AE5FFCA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3D6-DA2F-472C-8A2B-E082BF12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8356C3-B169-413B-A028-80E967C0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82602-EA28-4117-B56B-159872C7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D93A67-9BA2-4E26-B8C0-7C7B1E4B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E7E07-EE99-4672-A21B-E4937922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BB0AC5-B6F7-4DDF-98A6-A6185811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022A6-F105-49B7-9897-69499161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2DC30-2018-4A94-8BE0-2477B22B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26FB4-C80D-403F-87AA-C22BC90B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5BD36-2145-4EFF-9D12-07595F6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A1A56-CAAB-486F-B58B-46E9EF1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635-7631-43D5-A5D5-17B04B6F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300542-FB67-4A48-98C9-AB6B0D39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CD41D-CEF3-4D84-8D03-410EB228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FAC07-2750-4D86-BD35-9ACEF71F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BA492-6A69-4C10-9BC8-DFE9EFEE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11EA4-0710-4690-96C3-5A89B18D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D5AAC-4FF5-43C2-8949-7B6D5713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51A15-19EC-41A5-89EB-D35BF4D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2FC96-3C38-47B8-8106-C07529CE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F1B19-B453-411F-BE49-A84A63C0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B5144-C3C3-4243-8BFB-342B509D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BA9-CB82-4198-B1EB-23DD879C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AFD3A-D708-40CC-BA0E-D3868C55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C043B-AD6B-4DD3-9497-804B37CA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48E56-5A79-49EC-9CBD-6EC676F5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72DE6-F570-4D73-89A7-E175E03C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71C24-5446-424A-B974-006A4190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E1E-72A6-450A-8E87-8811EB4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6301-0E50-402C-B7F3-67D9BD83DE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9B35-4A84-47D5-AE37-8C45F2C065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86BC-81DF-4939-B9FD-EABA560E33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5B82-BF3E-4F42-AA29-5EBA203BE8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8F6-C823-43AB-AC24-DA315CC87E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CB5D-637C-4D30-AC27-4E42FE7401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71CC-4749-4C63-9D34-36C0DE0F1D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4580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БЮДЖЕТ ШКОЛЫ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 НА 2011 ГОД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4214880"/>
            <a:ext cx="6172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2 924 296 – районны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48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0 612 748,0 оплата труда, из них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7 851 973 –заработная пла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 685 375 –начисления на оплату труда (213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75 400 – прочие выплаты(212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52 800 методическая литерату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22 600 суточные на курсах,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25 000 транспортные услуги (222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роезд на курсы, соревн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5 000 прочие услуги (226 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проживание на курсах,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5 000 – прочие расходы (290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итание на районных  и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бластных  олимпиадах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Всего: 418 518рубле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03 518 – увеличение стоимост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атериальных запас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приобретение картриджей - 5000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бумага для принтера – 18 000 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хозяйственные товары, моющие, дезинфицирующие средства – 40 00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материалы для шк. мастерской – 10 000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спортивный инвентарь – 10 48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лампочки, светильники – 20 038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15 000  руб -  увеличение стоимости основных средст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школьной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бе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80 000- приобретение учеб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 000 – приобретение учебно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наглядных пособ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0 000 – приобретение кл. досо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компьютерного оборуд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РАЙОННЫЙ БЮДЖЕТ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Schoolbook"/>
              </a:rPr>
              <a:t>Всего 2 924 296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3 000 руб (212ст.) – суточные в командировка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7 000 руб (221 ст.) – услуги связи ОАО «Волга-Телеком» (из них 43 383,62 задолженность за 2010 го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0 000 руб (222 ст) –проезд в командировки, на совещания  и т.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 387 296 руб. – коммунальные услуг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1 992 996  - оплата отопл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387 900  - оплата электроэнерг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6 400 – оплата прочих коммунальных услу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УСЛУГИ ПО СОДЕРЖАНИЮ ИМУЩЕСТВА (СТ.225) -200 000 РУБ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 717,32  - регламентные работы  , ТО  ПС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 777,28 – оплата дератизаци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81,44 – услуги по заправке и выпуске автоб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 000 – уборка жидких и твёрдых отход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80 000 – ремонт медицинского кабин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5 144,38 – услуги по ремонту электрооб-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3134,6 –выпуск, заправка автобу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15 715,55 –пожарная сигнал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623,68 – дерат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7 105,75 – ремонт эл.оборудов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ПРОЧИЕ УСЛУГИ (226 СТ) 73 000Р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4500- проживание в командировка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482,4 – оплата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1 110,23 – услуги стоянки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 024,63 – услуги по проведению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дицинских осмотр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00 – оплата услуг компании СБИ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адолженность за 2010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5 753,4 - за стоянку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29,34 – за обслуживание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УВЕЛИЧЕНИЕ СТОИМОСТИ МАТЕРИАЛЬНЫХ ЗАПАСОВ (СТ.340.606; СТ 340.607)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202 000 РУБ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87 002,4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15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Хозяйственные расходы 10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атериалы для ремонта 43 422,5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44 997,53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Запчасти к автобусу – 1091,48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– 485,9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48:16Z</dcterms:created>
  <dc:creator>директор</dc:creator>
  <dc:description/>
  <dc:language>en-US</dc:language>
  <cp:lastModifiedBy>директор</cp:lastModifiedBy>
  <dcterms:modified xsi:type="dcterms:W3CDTF">2011-03-02T10:45:58Z</dcterms:modified>
  <cp:revision>47</cp:revision>
  <dc:subject/>
  <dc:title>Бюджет школы  на 2011 год</dc:title>
</cp:coreProperties>
</file>